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8010-50EF-4ECA-90C2-3AA56BC4B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ion pipeline software that works with Chado &amp; other parts of gmod. WILL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multiple MODs-press button and suck data out of five different MODs and place into a warehouse for joint quer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 linking to and from MODs using Web Services.  BioMOB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data mining fac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 brow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WORKING GROUP!! – Eric Just is Czar, Peili will create us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 ENCODING DOCUMENT!!! – Chris Mungal is Cz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Paper – case study paper?  Seminal GMOD paper. Scott to follow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to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ciumdb case study (new data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-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xtpresso)(apollo)(gbrowse)(pathway tools)(pub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legacy system (dicty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workshop in the biocurator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meeting right after biocurators meeting in menlo park or stanford or berkeley or u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line) Tuto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group on ortholog group curation – Peter Karp czar (Richard Durbin might want to hel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working group to figure out how to coordinate versi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ite revision to make more user friendly – Brian O’Con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nual joint meeting with biocurators, held adjacent to bio-hackathon / four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mall semiannual developers meeting – two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SWAT Team – request link on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temporary tatto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ime in dev meeting to work together, less show &amp; t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how and tell in annual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253-ED15-435B-A74B-769400C5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0A1-50B0-41FA-BF79-54E6154E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A01-9A1C-4D27-92F3-BEF69639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470-7C22-4E53-86E7-CB67F403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F0B-DFA6-47DD-A74D-414BFB6E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310-AB83-44F1-987A-BD7ED5C6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D23-CA65-41DB-9F8E-E603D5AF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A31-0146-440A-A5F6-2AB53D93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0DA-9209-4ABB-AB40-44658195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8AB-D941-463B-9C6B-EBB20F94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0EE-999C-44AB-B5C0-E97EEE71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CF6-852A-4123-92F0-CB826198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126A-25DB-496D-96F8-C6F16AEC3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mod.org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– 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MOD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tiv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s, strains, mu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s, SAGE, expression patterns, ChIP/chip, interac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Ch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literature curation tools &amp; Textpresso (with Chado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nteraction viewers run on top of Ch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ve BioPi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mee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operating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ha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log groups (Sonnham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F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’Reilly Model Organism Database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op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bottom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lines &amp;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user-driv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“grand”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MOD PIs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r’s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curator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developer/biocurator mee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10:59Z</dcterms:created>
  <dc:creator> </dc:creator>
  <dc:description/>
  <dc:language>en-US</dc:language>
  <cp:lastModifiedBy>Scott Cain</cp:lastModifiedBy>
  <dcterms:modified xsi:type="dcterms:W3CDTF">2005-05-17T23:47:29Z</dcterms:modified>
  <cp:revision>21</cp:revision>
  <dc:subject/>
  <dc:title>GMOD – What Next?</dc:title>
</cp:coreProperties>
</file>